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B806-96DC-4760-B16F-B0079642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349F4-D67D-4AAF-A578-1F05AB32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978D-4065-4FB0-98DF-20D14754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36E6-677A-4187-AFA4-21EC2BD9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33C8-10B8-4E9D-94A3-F9C6C2E3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1C5B-F875-471D-99F6-2639468D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72EC-A8D2-460C-B698-0D8BD397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146A-03F2-47EB-9B2E-AFFFD782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10A2-4BE4-4224-8019-BC6FF5CC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F723-3D93-4BB9-B3E1-2019B0AA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3A47-8809-4217-BEE0-37E39A90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0601-7472-47AE-82F6-7E03F755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F587-5FF0-44CF-A392-894D5F41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FA39-7C88-4927-B8AE-FDF68B96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3079-16BA-4BC2-88F3-CFBD5BEA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1042-4A38-4920-8F48-75A4803E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6B4A-2CB8-4AEC-85F2-989DA246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FAFF-0DF4-4879-82C9-5E2C2A3B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B0F2-A1D6-4EE7-A61F-8CD63A85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35B5-66CA-4C66-B25A-99402A2B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117B6-0689-4280-9152-9A0B2A7B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D8C8-94BE-4734-803C-1E42D118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290E-0857-48EE-BAAF-C0FAEE1D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47D3-3C0B-4314-A93E-EE5A38B8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E736-D83F-4124-A695-83C036CA7B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5607-B79D-4086-AC65-2811C311EF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바탕"/>
              </a:rPr>
              <a:t>“</a:t>
            </a:r>
            <a:r>
              <a:rPr b="1" lang="en-US" sz="6000" spc="-1" strike="noStrike">
                <a:solidFill>
                  <a:srgbClr val="e5e5ff"/>
                </a:solidFill>
                <a:latin typeface="바탕"/>
              </a:rPr>
              <a:t>Trifles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usan Glaspe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2048040"/>
            <a:ext cx="3352680" cy="245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041480" cy="162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174680" cy="147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0" t="11249" r="0" b="0"/>
          <a:stretch/>
        </p:blipFill>
        <p:spPr>
          <a:xfrm>
            <a:off x="7238880" y="4754520"/>
            <a:ext cx="1511280" cy="1443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658280" y="457200"/>
            <a:ext cx="78408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69608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4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r. &amp; Mrs. H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orge Clooney and Julianne Mo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orge is a versatile actor and one of my favori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lianne is an excellent actress, middle aged and not as thin as Mrs. Pet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76520" y="35053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638680" y="3505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eriff &amp; Mrs. P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aron Eckhart and Nicole Kid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Aaron because he is middle aged and reminds me of a sheriff in this pict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Nicole because she is thin and wiry as Mrs. Peters is describ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2104920" cy="21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nty Attorney, Mr. Hender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in Farr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Colin because he is young, has a professional appearance as a lawyer and he played a very good detective in the movie “Minority Report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324160" cy="3486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r. &amp; Mrs. Wrig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hony Hopkins and Kathy B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Kathy because she is such a versatile actress and she was awesome in “Misery”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hony is one of my favorite actors.  He is very versatile and talented and I loved his characters in “Meet Joe Black” and “Silence of the Lambs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3276720"/>
            <a:ext cx="2503440" cy="3105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2667240" cy="2819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ng Sel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ung Up” by Madonna – Because Mr. Wright was hung by a rop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ck and Tired” by Everclear – Obviously Mrs. Wright was sick and tired of her life with a hard man that degraded 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cture to Burn” by Taylor Swift – Because of the lyrics, “there’s no time for tears, I’m just sitting here planning my revenge, there’s nothing stopping me.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ue on Black” by Kenny Wayne Shepherd – Because of a line in the chorus,  “a dead man’s touch” and “wrong can’t be undone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n a Woman’s Fed Up” by R Kelly – Because she was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the images that I chose were mentioned in the play.  Mrs. Wright had a singing canary, canned preserves, quilted, and her husband was murdered by a rope.  The picture of the farm house was a realistic image especially because it had a second floor.  Mr. Wright was murdered in the upstairs bedroom.  I think these images would attract movie go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1:54:41Z</dcterms:created>
  <dc:creator>Lowe family</dc:creator>
  <dc:description/>
  <dc:language>en-US</dc:language>
  <cp:lastModifiedBy>Lowe family</cp:lastModifiedBy>
  <dcterms:modified xsi:type="dcterms:W3CDTF">2008-04-06T19:07:19Z</dcterms:modified>
  <cp:revision>19</cp:revision>
  <dc:subject/>
  <dc:title>“Trifles”</dc:title>
</cp:coreProperties>
</file>